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3D41-281E-4E48-B0CF-B1E25F9ACAD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D537-FEAB-459D-8671-98695190A47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BB1-AF57-4096-B079-7A3B40D2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BA7-8951-4FA5-A6B8-44782F81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36D-6219-4CA7-BF5F-21375D60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066-ED8D-40BE-9107-CDCA8D62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41D-045E-4228-A52C-D1AABFA0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F8A-6F1F-494C-B3A4-58DF317E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1D0-F2AE-49B8-BA33-5489CF7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71E-6304-4ACE-9B82-223F2ADA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385-21DC-44DF-B430-CE61B236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02C-48FE-499C-9BF4-B30B3BA0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37B-7C6C-4411-875A-3B2B67B3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E3E-7FE6-4F0A-9C43-36E144F8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D057-0E8B-49D2-A612-899067F87E0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Legislação Ambiental sobre Resíduos Sól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50920" y="1700280"/>
            <a:ext cx="8569080" cy="47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sonância com as demais políticas afins ( PNRSMMA) e com as políticas sociais de Assistência, de Transferência de Renda e Cidadania (MD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oco na inclusão social e emancipação econômica do cat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romisso com o desenvolvimento da cadeia produtiva dos recicláveis beneficiando 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dução à geração de trabalho e renda, para reverter a discriminação social imposta a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liminação do desperdício e estímulo ao reaproveitamento e/ou reciclagem de matérias prim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jeto de MDL na redução de emissões de biogás em aterros e lixões - MCidades, MMA, Banco Mundi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0920" y="1800360"/>
            <a:ext cx="856908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inanciamento, pelo FGTS, para implantação de instalações para o manejo, processamento e destinação final dos resíduos de construção e demoli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anual de Apoio à elaboração de PGIRCD (CAIXA, apoio MCIdad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pacitação de recursos humanos para a gestão dos resíduos, incluindo capacitação para catadores - MCidades/IBAM, FNM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alização de seminários de sensibilização e formação de redes de instituições e de especialistas na temática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envolvimento de banco de dados e sistema de informações em gestão integrada de resíduos – SNIS RS e elaboração de Portal Governamental em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00000" y="1773360"/>
            <a:ext cx="67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79280" y="2349360"/>
            <a:ext cx="8828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916280"/>
            <a:ext cx="75596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71640" y="1844640"/>
            <a:ext cx="691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349360"/>
            <a:ext cx="8164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76345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8360" y="1916280"/>
            <a:ext cx="82072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700280"/>
            <a:ext cx="7345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falta de saneamento provoca impactos ambientais na água dos lençóis freáticos e da superfície. Os resíduos sólidos contaminam a natureza com chorume e gás metano, entre outros poluentes que afetam a camada de ozônio, contribuindo para aumentar o efeito estuf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a estabelece as diretrizes nacionais para o saneamento básico. A nova legislação define as regras para o aumento de investimentos privados e públicos no setor. Os focos são o planejamento, a fiscalização e a participação social.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771640" y="907920"/>
            <a:ext cx="5677200" cy="105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82803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1844640"/>
            <a:ext cx="8393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7002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91 de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a Resolução CONSEMA nº 008/2000, que dispõe sobre a composição da Câmara Técnica Permanente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87280" y="28018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73 de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sobre a co-disposição de resíduos sólidos industriais em aterros de resíduos sólidos urbanos no Estado do Rio Grande do S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187280" y="388296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17 de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elece diretrizes para a elaboração e apresentação de Plano de Gerenciamento Integrado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87280" y="5106960"/>
          <a:ext cx="6917040" cy="118908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9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para o Licenciamento Ambiental de Sistema de Incineração de Resíduos provenientes de Serviço de Saúde, classificados como infectantes (Grupo 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20032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2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sobre o licenciamento ambiental para co-processamento de resíduos em fornos de clínqu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87280" y="3301920"/>
          <a:ext cx="6917040" cy="22860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5 de 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o prazo de duração da Câmara Técnica Provisória para tratar da elaboração de normas e procedimentos de incineração e co-processamento, para o licenciamento ambiental e operação de sistemas de incineração de resíduos sólidos industriais, urbanos e de serviço de saúde no Estado do Rio Grande do Sul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Municipais – 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162864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to nº 9.367 de 29/12/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menta a Lei Complementar nº. 65, de 22/12/81, em relação ao manejo de resíduos sólidos no Município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23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44364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4"/>
          <p:cNvSpPr/>
          <p:nvPr/>
        </p:nvSpPr>
        <p:spPr>
          <a:xfrm>
            <a:off x="1174320" y="587052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2.portoalegre.rs.gov.br/smam/default.php?p_secao=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205000"/>
            <a:ext cx="8307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81327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4000" y="2565360"/>
            <a:ext cx="85230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11280" y="1916280"/>
            <a:ext cx="7856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87280" y="1700280"/>
            <a:ext cx="68407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 obrigar o poder público a produzir planos de resíduos sólidos, de recursos hídricos e de saneamento básico e a criar agências reguladoras, a lei torna o saneamento um negócio seguro e rentável. Outro destaque é o fortalecimento da comunidade na gestão associada dos consórcios municipais a serem implemen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artigo 57 da nova lei modifica o artigo 24 da Lei 8.666, dispensando licitação para contratação de catadores de resíduos sólidos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expectativa do Ministério do Meio Ambiente, com a promulgação da lei do saneamento, é que esta favoreça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ovação da Política Nacional de Resíduos Sóli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que se encontra na Casa Civil. As propostas para tal política foram coletadas pelo Ministério e estão sendo estudadas desde 1991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5800" y="22096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Brasil precisa investir cerca de 180 bilhões de reais num prazo de 20 anos para universalizar os serviços de saneamento bás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 2006, foram investidos apenas R$ 4,5 bilhões no set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53341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onte: AESBE (Associação das Empresas de Saneamento Básico Estadu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50920" y="1916280"/>
            <a:ext cx="856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enta: Estabelece diretrizes e normas para o gerenciamento dos diferentes tipos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50920" y="3343320"/>
            <a:ext cx="8569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mento na quantidade de resíduos produzidos e escassez de áreas para disposição f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tinação final inadequad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istência de catadores, inclusive crianças nos lixões e nas ru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alta de incentivo para o fortalecimento do mercado de material reciclad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campanha nacional, estimulando a população a separar os materiais recicláveis e doá-los aos cata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3276720" y="2781360"/>
            <a:ext cx="2735280" cy="43164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brança inexistente ou insuficiente para a implementação de novos investiment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os níveis de qualidade e eficiência n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linha de apoio à capacitação de recursos humanos e de catadores para a gestão dos resídu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continuidade de ações no âmbito loc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GU como principal fonte de recursos, sujeito a Cortes orçamentários e pulverização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quadros na estrutura do poder público das três esfer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a capacidade operacional na maioria dos OEM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 70% dos municípios não existe órgão específico para a Limpeza Urban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instrumentos adequados de regulação e controle sobre 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responsabilização do ger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uma Política Nacional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0920" y="1989000"/>
            <a:ext cx="856908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L nº5.296/2005 da Política Nacional de Saneamento SNSA/MC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iretrizes para a prestação de serviços públicos de manejo dos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posta de Política Nacional de Resíduos Sól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AMA/SQA/MMA com apoio do MCidades e de entidades públicas e outras organizaçõ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itê Interministerial de Inclusão Social de Catadores e à Erradicação dos Lixõ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(MinCidades/FUNASA/MMA/MDS e outro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26:50Z</dcterms:modified>
  <cp:revision>209</cp:revision>
  <dc:subject/>
  <dc:title>Slide 1</dc:title>
</cp:coreProperties>
</file>